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PROJCTOR.WAV" ContentType="audio/x-wav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1.wmf" ContentType="image/x-wmf"/>
  <Override PartName="/ppt/media/image10.wmf" ContentType="image/x-wmf"/>
  <Override PartName="/ppt/media/image9.wmf" ContentType="image/x-wmf"/>
  <Override PartName="/ppt/media/image39.wmf" ContentType="image/x-wmf"/>
  <Override PartName="/ppt/media/image12.wmf" ContentType="image/x-wmf"/>
  <Override PartName="/ppt/media/image1.gif" ContentType="image/gif"/>
  <Override PartName="/ppt/media/image14.wmf" ContentType="image/x-wmf"/>
  <Override PartName="/ppt/media/LASER.WAV" ContentType="audio/x-wav"/>
  <Override PartName="/ppt/media/CAMERA.WAV" ContentType="audio/x-wav"/>
  <Override PartName="/ppt/media/image13.wmf" ContentType="image/x-wmf"/>
  <Override PartName="/ppt/media/EXPLODE.WAV" ContentType="audio/x-wav"/>
  <Override PartName="/ppt/media/image2.gif" ContentType="image/gif"/>
  <Override PartName="/ppt/media/image24.wmf" ContentType="image/x-wmf"/>
  <Override PartName="/ppt/media/image25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26.wmf" ContentType="image/x-wmf"/>
  <Override PartName="/ppt/media/image33.wmf" ContentType="image/x-wmf"/>
  <Override PartName="/ppt/media/image3.wmf" ContentType="image/x-wmf"/>
  <Override PartName="/ppt/media/image31.wmf" ContentType="image/x-wmf"/>
  <Override PartName="/ppt/media/image32.wmf" ContentType="image/x-wmf"/>
  <Override PartName="/ppt/media/image29.wmf" ContentType="image/x-wmf"/>
  <Override PartName="/ppt/media/WHOOSH.WAV" ContentType="audio/x-wav"/>
  <Override PartName="/ppt/media/image41.wmf" ContentType="image/x-wmf"/>
  <Override PartName="/ppt/media/image30.wmf" ContentType="image/x-wmf"/>
  <Override PartName="/ppt/media/image42.wmf" ContentType="image/x-wmf"/>
  <Override PartName="/ppt/media/image7.wmf" ContentType="image/x-wmf"/>
  <Override PartName="/ppt/media/image37.wmf" ContentType="image/x-wmf"/>
  <Override PartName="/ppt/media/image28.wmf" ContentType="image/x-wmf"/>
  <Override PartName="/ppt/media/CHIMES.WAV" ContentType="audio/x-wav"/>
  <Override PartName="/ppt/media/image18.wmf" ContentType="image/x-wmf"/>
  <Override PartName="/ppt/media/image20.wmf" ContentType="image/x-wmf"/>
  <Override PartName="/ppt/media/image6.wmf" ContentType="image/x-wmf"/>
  <Override PartName="/ppt/media/image36.wmf" ContentType="image/x-wmf"/>
  <Override PartName="/ppt/media/zipdn102.wav" ContentType="audio/x-wav"/>
  <Override PartName="/ppt/media/image27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5EE8-7748-45AC-81BF-88638328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12E1-2BAA-4F0B-8A80-2052B081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B1F7-85F1-4C16-B2AA-B9F7D9C4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4148-FCD3-449E-805E-009282A5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8BC3-9F4A-44C6-A48A-D8937D26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5BD4-E6CB-42FC-BFCE-546564B2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39F1-72FF-4DE1-9FF9-8A7A2B68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B5F9-77A6-4F9B-B210-ED0CC7FA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7E16-D39A-4424-A8A5-D5DE0A8E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0B2-6A48-4AE7-A34A-22FE988A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A5A-F195-4FA6-AE0B-5BBA97D0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E219-713B-4458-85AF-251C3BEF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A95D-027C-4A6B-89B7-4F3A05595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zipdn102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audio" Target="../media/PROJCTOR.WAV"/><Relationship Id="rId14" Type="http://schemas.openxmlformats.org/officeDocument/2006/relationships/audio" Target="../media/CHIMES.WAV"/><Relationship Id="rId15" Type="http://schemas.openxmlformats.org/officeDocument/2006/relationships/audio" Target="../media/LASER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EXPLODE.WAV"/><Relationship Id="rId20" Type="http://schemas.openxmlformats.org/officeDocument/2006/relationships/audio" Target="../media/LASER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EXPLODE.WAV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audio" Target="../media/LASER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EXPLODE.WAV"/><Relationship Id="rId20" Type="http://schemas.openxmlformats.org/officeDocument/2006/relationships/audio" Target="../media/LASER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EXPLODE.WAV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audio" Target="../media/LASER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EXPLODE.WAV"/><Relationship Id="rId18" Type="http://schemas.openxmlformats.org/officeDocument/2006/relationships/audio" Target="../media/LASER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EXPLODE.WAV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audio" Target="../media/CAMERA.WAV"/><Relationship Id="rId14" Type="http://schemas.openxmlformats.org/officeDocument/2006/relationships/audio" Target="../media/LASER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EXPLODE.WAV"/><Relationship Id="rId19" Type="http://schemas.openxmlformats.org/officeDocument/2006/relationships/audio" Target="../media/LASER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EXPLODE.WAV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audio" Target="../media/LASER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audio" Target="../media/PROJCTOR.WAV"/><Relationship Id="rId10" Type="http://schemas.openxmlformats.org/officeDocument/2006/relationships/audio" Target="../media/CHIMES.WAV"/><Relationship Id="rId11" Type="http://schemas.openxmlformats.org/officeDocument/2006/relationships/audio" Target="../media/LASER.WAV"/><Relationship Id="rId12" Type="http://schemas.openxmlformats.org/officeDocument/2006/relationships/audio" Target="../media/WHOOSH.WAV"/><Relationship Id="rId13" Type="http://schemas.openxmlformats.org/officeDocument/2006/relationships/audio" Target="../media/LASER.WAV"/><Relationship Id="rId14" Type="http://schemas.openxmlformats.org/officeDocument/2006/relationships/audio" Target="../media/WHOOSH.WAV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audio" Target="../media/LASER.WAV"/><Relationship Id="rId10" Type="http://schemas.openxmlformats.org/officeDocument/2006/relationships/audio" Target="../media/WHOOSH.WAV"/><Relationship Id="rId11" Type="http://schemas.openxmlformats.org/officeDocument/2006/relationships/audio" Target="../media/LASER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audio" Target="../media/LASER.WAV"/><Relationship Id="rId10" Type="http://schemas.openxmlformats.org/officeDocument/2006/relationships/audio" Target="../media/WHOOSH.WAV"/><Relationship Id="rId11" Type="http://schemas.openxmlformats.org/officeDocument/2006/relationships/audio" Target="../media/LASER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20840" y="885960"/>
            <a:ext cx="3705120" cy="4098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69000" y="2535120"/>
            <a:ext cx="3240000" cy="4052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98960" y="1338120"/>
            <a:ext cx="452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’s time to stop “</a:t>
            </a: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daydream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9520" y="5083200"/>
            <a:ext cx="452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start applying “</a:t>
            </a: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mental mat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85800"/>
            <a:ext cx="9753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heck whether the given number is a solution of the equ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066680"/>
            <a:ext cx="910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00"/>
                </a:solidFill>
                <a:latin typeface="Times New Roman"/>
              </a:rPr>
              <a:t>Solution of an equation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when the variable is replaced and the statement is tru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4920" y="1981080"/>
          <a:ext cx="3795480" cy="6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37954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79520" y="2639880"/>
                <a:ext cx="31986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2" name=""/>
          <p:cNvGraphicFramePr/>
          <p:nvPr/>
        </p:nvGraphicFramePr>
        <p:xfrm>
          <a:off x="838080" y="3352680"/>
          <a:ext cx="297180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352680"/>
                    <a:ext cx="297180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752480" y="4038480"/>
          <a:ext cx="1982880" cy="6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038480"/>
                    <a:ext cx="19828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 txBox="1"/>
          <p:nvPr/>
        </p:nvSpPr>
        <p:spPr>
          <a:xfrm>
            <a:off x="990720" y="4648320"/>
            <a:ext cx="259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t a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473720" y="1981080"/>
          <a:ext cx="3840120" cy="67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73720" y="1981080"/>
                    <a:ext cx="38401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667400" y="2590920"/>
                <a:ext cx="324000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0" name=""/>
          <p:cNvGraphicFramePr/>
          <p:nvPr/>
        </p:nvGraphicFramePr>
        <p:xfrm>
          <a:off x="5334120" y="3352680"/>
          <a:ext cx="2641320" cy="64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3352680"/>
                    <a:ext cx="264132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943600" y="4038480"/>
          <a:ext cx="1982880" cy="62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3600" y="4038480"/>
                    <a:ext cx="19828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 txBox="1"/>
          <p:nvPr/>
        </p:nvSpPr>
        <p:spPr>
          <a:xfrm>
            <a:off x="5181480" y="4648320"/>
            <a:ext cx="2590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t a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85800"/>
            <a:ext cx="9753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heck whether the given number is a solution of the equ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066680"/>
            <a:ext cx="910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00"/>
                </a:solidFill>
                <a:latin typeface="Times New Roman"/>
              </a:rPr>
              <a:t>Solution of an equation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when the variable is replaced and the statement is tru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82600" y="2006640"/>
          <a:ext cx="384156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2006640"/>
                    <a:ext cx="38415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69720" y="2573280"/>
                <a:ext cx="35006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1" name=""/>
          <p:cNvGraphicFramePr/>
          <p:nvPr/>
        </p:nvGraphicFramePr>
        <p:xfrm>
          <a:off x="1143000" y="3352680"/>
          <a:ext cx="269388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352680"/>
                    <a:ext cx="269388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879560" y="4038480"/>
          <a:ext cx="1727280" cy="6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79560" y="4038480"/>
                    <a:ext cx="17272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 txBox="1"/>
          <p:nvPr/>
        </p:nvSpPr>
        <p:spPr>
          <a:xfrm>
            <a:off x="990720" y="4648320"/>
            <a:ext cx="259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t a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48320" y="1600200"/>
          <a:ext cx="3749400" cy="13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1600200"/>
                    <a:ext cx="374940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334120" y="2819520"/>
          <a:ext cx="2570040" cy="1554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2819520"/>
                    <a:ext cx="257004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562720" y="4267080"/>
          <a:ext cx="2315880" cy="64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4267080"/>
                    <a:ext cx="231588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400800" y="4952880"/>
          <a:ext cx="1406520" cy="622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00800" y="4952880"/>
                    <a:ext cx="14065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 txBox="1"/>
          <p:nvPr/>
        </p:nvSpPr>
        <p:spPr>
          <a:xfrm>
            <a:off x="5334120" y="5334120"/>
            <a:ext cx="259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85800"/>
            <a:ext cx="9753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heck whether the given number is a solution of the equ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066680"/>
            <a:ext cx="910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00"/>
                </a:solidFill>
                <a:latin typeface="Times New Roman"/>
              </a:rPr>
              <a:t>Solution of an equation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when the variable is replaced and the statement is tru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28600" y="1981080"/>
          <a:ext cx="379584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37958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28760" y="2600280"/>
                <a:ext cx="33811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1" name=""/>
          <p:cNvGraphicFramePr/>
          <p:nvPr/>
        </p:nvGraphicFramePr>
        <p:xfrm>
          <a:off x="838080" y="3352680"/>
          <a:ext cx="2970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352680"/>
                    <a:ext cx="2970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752480" y="4038480"/>
          <a:ext cx="2033640" cy="6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038480"/>
                    <a:ext cx="2033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 txBox="1"/>
          <p:nvPr/>
        </p:nvSpPr>
        <p:spPr>
          <a:xfrm>
            <a:off x="990720" y="4800600"/>
            <a:ext cx="259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t a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648320" y="1905120"/>
          <a:ext cx="4292640" cy="67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1905120"/>
                    <a:ext cx="42926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087880" y="2604960"/>
                <a:ext cx="38880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9" name=""/>
          <p:cNvGraphicFramePr/>
          <p:nvPr/>
        </p:nvGraphicFramePr>
        <p:xfrm>
          <a:off x="5715000" y="3429000"/>
          <a:ext cx="2592360" cy="64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5000" y="3429000"/>
                    <a:ext cx="2592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732640" y="4114800"/>
          <a:ext cx="1982520" cy="62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32640" y="4114800"/>
                    <a:ext cx="19825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 txBox="1"/>
          <p:nvPr/>
        </p:nvSpPr>
        <p:spPr>
          <a:xfrm>
            <a:off x="5334120" y="4800600"/>
            <a:ext cx="259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685800"/>
            <a:ext cx="9677520" cy="1297800"/>
            <a:chOff x="0" y="685800"/>
            <a:chExt cx="9677520" cy="1297800"/>
          </a:xfrm>
        </p:grpSpPr>
        <p:sp>
          <p:nvSpPr>
            <p:cNvPr id="106" name=""/>
            <p:cNvSpPr/>
            <p:nvPr/>
          </p:nvSpPr>
          <p:spPr>
            <a:xfrm>
              <a:off x="0" y="685800"/>
              <a:ext cx="967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Check whether the given number is a solution of the inequality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2400" y="1066680"/>
              <a:ext cx="9031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800000"/>
                  </a:solidFill>
                  <a:latin typeface="Times New Roman"/>
                </a:rPr>
                <a:t>Solution of an inequality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 -  </a:t>
              </a:r>
              <a:r>
                <a:rPr b="1" lang="en-US" sz="2700" spc="-1" strike="noStrike">
                  <a:solidFill>
                    <a:srgbClr val="3333cc"/>
                  </a:solidFill>
                  <a:latin typeface="Times New Roman"/>
                </a:rPr>
                <a:t>when the variable is replaced and the statement is true.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8" name=""/>
          <p:cNvGraphicFramePr/>
          <p:nvPr/>
        </p:nvGraphicFramePr>
        <p:xfrm>
          <a:off x="297000" y="1936800"/>
          <a:ext cx="365904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1936800"/>
                    <a:ext cx="36590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00120" y="2575080"/>
                <a:ext cx="292896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≥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1" name=""/>
          <p:cNvGraphicFramePr/>
          <p:nvPr/>
        </p:nvGraphicFramePr>
        <p:xfrm>
          <a:off x="1027080" y="3352680"/>
          <a:ext cx="2592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27080" y="3352680"/>
                    <a:ext cx="2592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133720" y="4114800"/>
          <a:ext cx="1406520" cy="6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114800"/>
                    <a:ext cx="14065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 txBox="1"/>
          <p:nvPr/>
        </p:nvSpPr>
        <p:spPr>
          <a:xfrm>
            <a:off x="990720" y="4800600"/>
            <a:ext cx="259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t a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800600" y="1905120"/>
          <a:ext cx="3795840" cy="67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1905120"/>
                    <a:ext cx="3795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057640" y="2635200"/>
                <a:ext cx="32781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9" name=""/>
          <p:cNvGraphicFramePr/>
          <p:nvPr/>
        </p:nvGraphicFramePr>
        <p:xfrm>
          <a:off x="5791320" y="3429000"/>
          <a:ext cx="2638440" cy="64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1320" y="3429000"/>
                    <a:ext cx="263844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629400" y="4114800"/>
          <a:ext cx="1727280" cy="62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29400" y="4114800"/>
                    <a:ext cx="17272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 txBox="1"/>
          <p:nvPr/>
        </p:nvSpPr>
        <p:spPr>
          <a:xfrm>
            <a:off x="5791320" y="4800600"/>
            <a:ext cx="259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t a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0" y="685800"/>
            <a:ext cx="9677520" cy="1297800"/>
            <a:chOff x="0" y="685800"/>
            <a:chExt cx="9677520" cy="1297800"/>
          </a:xfrm>
        </p:grpSpPr>
        <p:sp>
          <p:nvSpPr>
            <p:cNvPr id="126" name=""/>
            <p:cNvSpPr/>
            <p:nvPr/>
          </p:nvSpPr>
          <p:spPr>
            <a:xfrm>
              <a:off x="0" y="685800"/>
              <a:ext cx="967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Check whether the given number is a solution of the inequality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2400" y="1066680"/>
              <a:ext cx="9031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800000"/>
                  </a:solidFill>
                  <a:latin typeface="Times New Roman"/>
                </a:rPr>
                <a:t>Solution of an inequality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 -  </a:t>
              </a:r>
              <a:r>
                <a:rPr b="1" lang="en-US" sz="2700" spc="-1" strike="noStrike">
                  <a:solidFill>
                    <a:srgbClr val="3333cc"/>
                  </a:solidFill>
                  <a:latin typeface="Times New Roman"/>
                </a:rPr>
                <a:t>when the variable is replaced and the statement is true.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8" name=""/>
          <p:cNvGraphicFramePr/>
          <p:nvPr/>
        </p:nvGraphicFramePr>
        <p:xfrm>
          <a:off x="304920" y="1981080"/>
          <a:ext cx="438156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43815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92040" y="2546280"/>
                <a:ext cx="432432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≤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1" name=""/>
          <p:cNvGraphicFramePr/>
          <p:nvPr/>
        </p:nvGraphicFramePr>
        <p:xfrm>
          <a:off x="1066680" y="3352680"/>
          <a:ext cx="3240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352680"/>
                    <a:ext cx="3240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066680" y="4114800"/>
          <a:ext cx="2035440" cy="6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4114800"/>
                    <a:ext cx="20354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 txBox="1"/>
          <p:nvPr/>
        </p:nvSpPr>
        <p:spPr>
          <a:xfrm>
            <a:off x="990720" y="4800600"/>
            <a:ext cx="259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e an equation that could be used to 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2193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n use mental math to 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80880" y="1752480"/>
          <a:ext cx="311652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3116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781280" y="2971800"/>
          <a:ext cx="86832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1280" y="2971800"/>
                    <a:ext cx="868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457200" y="22860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What number can seven be added to to get 21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0880" y="3809880"/>
          <a:ext cx="3432240" cy="7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809880"/>
                    <a:ext cx="343224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928880" y="5562720"/>
          <a:ext cx="51444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28880" y="5562720"/>
                    <a:ext cx="514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57200" y="44197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What number when multiplied by 3 and the result is added by 1 will get 19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e an equation that could be used to 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2193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n use mental math to 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1752480"/>
          <a:ext cx="347652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3476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727280" y="2819520"/>
          <a:ext cx="91908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2819520"/>
                    <a:ext cx="9190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457200" y="22860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What number can be subtracted by 12 to get 1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3505320"/>
          <a:ext cx="2568600" cy="138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505320"/>
                    <a:ext cx="256860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778040" y="5486400"/>
          <a:ext cx="86976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78040" y="5486400"/>
                    <a:ext cx="869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457200" y="4876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What number when divided by 3 will get 11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e an equation that could be used to 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2193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n use mental math to 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85800" y="1676520"/>
          <a:ext cx="325116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325116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900080" y="3200400"/>
          <a:ext cx="57168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0080" y="3200400"/>
                    <a:ext cx="571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457200" y="22096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What number when multiplied by 4 and the result subtracted by 7 will get 9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62120" y="3886200"/>
          <a:ext cx="2347920" cy="138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886200"/>
                    <a:ext cx="234792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905120" y="5791320"/>
          <a:ext cx="5140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5791320"/>
                    <a:ext cx="5140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457200" y="51814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What number when divided by 2 will get 4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 SKELTON</cp:lastModifiedBy>
  <dcterms:modified xsi:type="dcterms:W3CDTF">2004-09-11T20:51:39Z</dcterms:modified>
  <cp:revision>11</cp:revision>
  <dc:subject/>
  <dc:title>No Slide Title</dc:title>
</cp:coreProperties>
</file>